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87D-1C0C-44A1-B643-148DF01D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02A-CCB3-4C75-AA7D-A38D7D4A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1CC3-B63C-4352-A438-6C59C2AF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3F2-33E3-478D-86C3-F49D2D4B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040-89B8-4669-B306-8A0E6EF4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D76-A32A-4CF3-937A-868D04B0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44E-C962-462C-9C2A-51AFA2B3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F43-630E-4E23-85E5-2132C258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349-352D-461A-92BE-7D26CF67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3ED3-9903-4E84-8364-8A8F4AB3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AAB-8115-4F07-81E7-3983436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5C9-9693-40FE-9B69-26076834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2DF2-A2B0-4E66-8E7F-698001F12B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640" y="2362320"/>
            <a:ext cx="57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2392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0120" y="5410080"/>
            <a:ext cx="457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6386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41360"/>
            <a:ext cx="7848720" cy="2378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34320" y="61722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69644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46748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91520" y="3505320"/>
            <a:ext cx="10666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5:23Z</dcterms:modified>
  <cp:revision>206</cp:revision>
  <dc:subject/>
  <dc:title>Slide 1</dc:title>
</cp:coreProperties>
</file>